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reeze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23A-2827-4846-BD09-CEC701A3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9D4-3620-4776-AB5D-A64160C1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271-21B7-4FD5-BC6C-34C4EB51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4DF-B87E-428C-95D4-A5B81988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A8E-B9F8-43A4-B588-B7BCDB01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5CF-7081-4DA3-8D91-72613CF6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8CC-DB51-499B-BF71-8BD1A1DC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17A-0E8D-4075-A7D2-C6E2B001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C26-9B2B-40BC-8D96-5B126B81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622-0B11-45F6-A8DA-919D6AD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2E8-EC13-430D-BAED-F5DC0201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37D-E965-4899-A5C3-5789E3C0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681A-5153-42D3-B0EE-77E49A5A93D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60320"/>
            <a:ext cx="7772400" cy="22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BUNGAN DASAR NEGARA DENGAN KONSTITU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Bar dir="vert"/>
    <p:sndAc>
      <p:stSnd>
        <p:snd r:embed="rId1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SAR NEG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aruda1"/>
          <p:cNvPicPr/>
          <p:nvPr/>
        </p:nvPicPr>
        <p:blipFill>
          <a:blip r:embed="rId1"/>
          <a:stretch/>
        </p:blipFill>
        <p:spPr>
          <a:xfrm>
            <a:off x="1762200" y="1484280"/>
            <a:ext cx="56181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tencil"/>
              </a:rPr>
              <a:t>Dasar Negar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Stencil"/>
              </a:rPr>
              <a:t> landasan berpijak mengatur kehidupan bernega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77920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sar negar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sar falsafah negara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hilosofische grondslag)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oman dalam penyelenggaraan kehidupan kenegaraan untuk mencapai tujuan neg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Calibri"/>
                <a:ea typeface="宋体"/>
              </a:rPr>
              <a:t>Dasar negara bagi warga negara menjadi suatu sumber inspirasi dan sumber cita-cita hidup berneg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4211640" y="409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258920" y="41241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sar Negara 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97560" y="41241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CASI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335840" y="2611440"/>
            <a:ext cx="44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ologi negara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taats ide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AutoShape 7"/>
          <p:cNvSpPr/>
          <p:nvPr/>
        </p:nvSpPr>
        <p:spPr>
          <a:xfrm rot="5400000">
            <a:off x="5928480" y="3386880"/>
            <a:ext cx="976320" cy="48600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2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casila sebagai dasar neg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365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ala ketentuan mengenai penyelenggaraan negara dijiwai oleh nilai-nilai Pancas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tentuan penyelenggaraan negara yang dijiwai oleh nilai-nilai Pancasila tercantum dalam konstitu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20280"/>
            <a:ext cx="8229600" cy="309564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1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asar negara berisi nilai-nilai </a:t>
            </a:r>
            <a:r>
              <a:rPr b="1" lang="it-IT" sz="3200" spc="-1" strike="noStrike">
                <a:solidFill>
                  <a:srgbClr val="ffffff"/>
                </a:solidFill>
                <a:latin typeface="Calibri"/>
                <a:ea typeface="宋体"/>
              </a:rPr>
              <a:t>dasar filosofis bangsa ke arah mana negara akan diselenggarakan.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Calibri"/>
                <a:ea typeface="宋体"/>
              </a:rPr>
              <a:t>Nilai-nilai dasar ini sebagai isi norma dasar negara yang menjiwai 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seluruh tata aturan penyelenggaraan neg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5580000" y="3357720"/>
            <a:ext cx="1670040" cy="1366560"/>
          </a:xfrm>
          <a:custGeom>
            <a:avLst/>
            <a:gdLst>
              <a:gd name="textAreaLeft" fmla="*/ 223560 w 1670040"/>
              <a:gd name="textAreaRight" fmla="*/ 1446480 w 167004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635280" y="4133160"/>
            <a:ext cx="20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onstitu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236000" y="389484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Ada dal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758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mbukaan UUD 194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4784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isi asas kerokhanian bangsa, yaitu Pancasila yang merupakan dasar negara sebagai sumber dari segala sumber hukum, dan landasan bagi para penyelenggara negara dalam melaksanakan kehidupan kenegara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19120" y="1196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ena Pembukaan UUD 1945 berisi Pancasila menempatkan kedudukan Pembukaan UUD 1945 sebagai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atsfundamentalnor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bagai norma dasar kehidupan berneg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 dasar kehidupan bernegara ini dijabarkan dalam pasal-pasal UUD 1945 (Batang tubu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6:39:05Z</dcterms:created>
  <dc:creator>PBPERDANA</dc:creator>
  <dc:description/>
  <dc:language>en-US</dc:language>
  <cp:lastModifiedBy>UNY</cp:lastModifiedBy>
  <dcterms:modified xsi:type="dcterms:W3CDTF">2014-04-14T02:13:13Z</dcterms:modified>
  <cp:revision>28</cp:revision>
  <dc:subject/>
  <dc:title>HUBUNGAN DASAR NEGARA DENGAN KONSTITUSI</dc:title>
</cp:coreProperties>
</file>